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789-0C65-487A-906B-926A50C8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490-98E4-469D-A8B7-A7CD6A6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DD2-1BFB-463C-8987-FAB73DB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B18-224C-4091-BA75-12FFF2B5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64A4-55E5-4463-BC46-BE522087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E176-2480-4E87-AC94-8B97979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FF9-0646-49E8-B757-A672994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935-6F4C-4BE2-9AA6-D50C4205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BA53-49AC-46F3-9BE3-CB2F4CB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143-A748-425B-A844-EABAA2E7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87C7-35B8-4F48-AD2D-270080A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E78-62F9-4630-9284-976A161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0FC-713D-4631-AC3B-354C297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E35F-A9AE-4BA9-9E68-5AF8D57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65C1-A8AF-4EE8-AC77-2ECFA91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5EAD-B340-49FC-B46F-9BF4D3DA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47C6-3E69-4245-A189-91AB4807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52D-7F3E-4D75-9D98-EDFB2FC6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331-DAD1-44E0-8A67-E9E57296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E83-60A8-4FD0-A0CF-7655504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BC0-7786-4545-BF31-6981556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515-4C34-4235-B2B8-817C53A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FB1-210E-45D0-9B60-BB2C016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74F-71C5-4F9C-80E3-7FFB926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F17-71F8-48C1-8088-C42313CC87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7DE9-AC5E-411F-8191-6306335C07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i4RbxI6lgA2BaJzbkF;_ylu=X3oDMTBxaW9zM2M4BHBvcwM0BHNlYwNzcgR2dGlkA0kwODZfMTA4/SIG=1ivvt9h7t/EXP=1220384568/**http%3A//images.search.yahoo.com/images/view%3Fback=http%253A%252F%252Fimages.search.yahoo.com%252Fsearch%252Fimages%253Fp%253DAbraham%252BLincoln%2526fr%253Dyfp-t-501%2526toggle%253D1%2526cop%253Dmss%2526ei%253DUTF-8%26w=439%26h=618%26imgurl=www.myclassiclyrics.com%252Fartist_biographies%252FAbraham_Lincoln_Biography.jpg%26rurl=http%253A%252F%252Frevitalizeyourchurch.blogspot.com%252F2007_03_01_archive.html%26size=44.6kB%26name=Abraham_Lincoln_Biography.jpg%26p=Abraham%2BLincoln%26type=JPG%26oid=328690b98958ebca%26no=4%26tt=125,257%26sigr=120kf29jd%26sigi=128ag1c4b%26sigb=135h64a7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ds.yahoo.com/_ylt=A9G_bDmzS7xIMh4BaiCJzbkF;_ylu=X3oDMTBxaW9zM2M4BHBvcwM0BHNlYwNzcgR2dGlkA0kwODZfMTA4/SIG=1oni3k7kt/EXP=1220386099/**http%3A//images.search.yahoo.com/images/view%3Fback=http%253A%252F%252Fimages.search.yahoo.com%252Fsearch%252Fimages%253Ffr2%253Dsg-gac%2526sado%253D1%2526p%253Ddeclaration%252520of%252520independence%2526fr%253Dyfp-t-501%2526ei%253Dutf-8%2526x%253Dwrt%26w=424%26h=500%26imgurl=static.flickr.com%252F3156%252F2356155400_24faa4dd88.jpg%26rurl=http%253A%252F%252Fwww.flickr.com%252Fphotos%252F24516121%2540N08%252F2356155400%252F%26size=253.1kB%26name=declaration%2Bof%2Bindependence%26p=declaration%2Bof%2Bindependence%26type=JPG%26oid=2340cc74954a8590%26fusr=carly.mauch%26tit=declaration%2Bof%2Bindependence%26hurl=http%253A%252F%252Fwww.flickr.com%252Fphotos%252F24516121%2540N08%252F%26no=4%26tt=38,965%26sigr=11le4ku30%26sigi=11gfs2qri%26sigb=13s3ni43q%26sigh=11aeb8cu9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come to U.S. History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9520" y="1523880"/>
            <a:ext cx="276084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mage Preview"/>
          <p:cNvPicPr/>
          <p:nvPr/>
        </p:nvPicPr>
        <p:blipFill>
          <a:blip r:embed="rId3"/>
          <a:stretch/>
        </p:blipFill>
        <p:spPr>
          <a:xfrm>
            <a:off x="5334120" y="1523880"/>
            <a:ext cx="2390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 Questions to Think About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bother to study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sorts of tools do we use to study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re some problems studying hi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like studying history??? WH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History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 account mostly false, of events mostly unimportant, which are brought about by rulers mostly knaves, and soldiers mostly fool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mbrose Bier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s indeed little more than the register or crimes, follies, &amp; misfortunes of manki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dward Gibb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history is an ever evolving story of the past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JUST A SET OF DATES AND FACTS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do we study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who don’t study it are doomed to repeat the 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grad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erything has a his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tells us about why we are the way we are in the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ls of the Tra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mary Sources-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and info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physical remains (artifac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Geographical records (maps, charts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Written testimony (diaries, letters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Image Preview"/>
          <p:cNvPicPr/>
          <p:nvPr/>
        </p:nvPicPr>
        <p:blipFill>
          <a:blip r:embed="rId1"/>
          <a:stretch/>
        </p:blipFill>
        <p:spPr>
          <a:xfrm>
            <a:off x="5029200" y="1295280"/>
            <a:ext cx="320832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657600"/>
            <a:ext cx="2500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l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Secondary sources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ything not 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written long after ev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ex. (textbooks, research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Go to fullsize image"/>
          <p:cNvPicPr/>
          <p:nvPr/>
        </p:nvPicPr>
        <p:blipFill>
          <a:blip r:embed="rId1"/>
          <a:stretch/>
        </p:blipFill>
        <p:spPr>
          <a:xfrm>
            <a:off x="5715000" y="1447920"/>
            <a:ext cx="178272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Modern American History cover"/>
          <p:cNvPicPr/>
          <p:nvPr/>
        </p:nvPicPr>
        <p:blipFill>
          <a:blip r:embed="rId2"/>
          <a:stretch/>
        </p:blipFill>
        <p:spPr>
          <a:xfrm>
            <a:off x="5715000" y="3962520"/>
            <a:ext cx="1798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s with History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ly the winners write history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spectiv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se history is it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KIPEDIA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jor Themes we will discuss this year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ace Relations and their impact on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cial class in the U.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flict and Conflict resolution in the U.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nections of all of the abov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40:38Z</dcterms:created>
  <dc:creator>gx270</dc:creator>
  <dc:description/>
  <dc:language>en-US</dc:language>
  <cp:lastModifiedBy>gx270</cp:lastModifiedBy>
  <dcterms:modified xsi:type="dcterms:W3CDTF">2008-09-01T20:24:14Z</dcterms:modified>
  <cp:revision>3</cp:revision>
  <dc:subject/>
  <dc:title>Welcome to U.S. History!</dc:title>
</cp:coreProperties>
</file>